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F55-1090-4587-AE9E-3B008E47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49A-9AEE-46B1-8EA6-576AF08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26B-9A20-4487-9C7D-044A1EAE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69F-9649-4F1C-9F6F-BC9E9887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CDCD-E06F-44ED-8420-A12E5DB6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AA5C-49C9-479C-96BC-CAF154C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A3C3-F7F8-411A-AC5A-6C6FFBB0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2E40-69C0-43C3-AAA1-2175B1A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275A-5BF9-437E-9A9D-58841B8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BC11-A7A4-466F-82B9-D82D3A0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1A5-D671-4D40-8AE6-71E6375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5A9-1B1F-4F61-8896-4836456A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AB97-F451-463B-8F83-74B5CD6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9C6-DB21-40CF-8CF6-08BFBF8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FA5F-74AD-4381-9D18-BB4BD2F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858-8DA1-4BED-AE87-C8845142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0951-57FD-49A4-B038-635C3471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EC3-01F5-4AE5-8AE2-29CE5CF3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F91-27D1-426C-957A-C18A38E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EC8-469E-4BE9-8C61-A173186B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04E-32F8-4CC0-94CB-7F69A225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983-E7ED-4915-997B-23CAA4E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D1D-633C-4784-9332-EF1E578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EFF-6190-4FE8-85A5-94B681B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0675-3EE2-453D-9392-B22702DB7D8C}" type="slidenum"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49F5-C74C-4ACA-AF90-BD92CBBC0926}" type="slidenum">
              <a:rPr b="0" lang="lt-LT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000000"/>
                </a:solidFill>
                <a:latin typeface="Times New Roman"/>
              </a:rPr>
              <a:t>Matematika Tau plius</a:t>
            </a:r>
            <a:br>
              <a:rPr sz="6000"/>
            </a:br>
            <a:r>
              <a:rPr b="1" lang="lt-LT" sz="6000" spc="-1" strike="noStrike">
                <a:solidFill>
                  <a:srgbClr val="000000"/>
                </a:solidFill>
                <a:latin typeface="Times New Roman"/>
              </a:rPr>
              <a:t> 10 klasė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876560"/>
            <a:ext cx="51829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595900"/>
                </a:solidFill>
                <a:latin typeface="Arial"/>
              </a:rPr>
              <a:t>Turinio apžvalga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595900"/>
                </a:solidFill>
                <a:latin typeface="Arial"/>
              </a:rPr>
              <a:t>Parengė Griškabūdžio v. m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595900"/>
                </a:solidFill>
                <a:latin typeface="Arial"/>
              </a:rPr>
              <a:t>matematikos mokytoja metodininkė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595900"/>
                </a:solidFill>
                <a:latin typeface="Arial"/>
              </a:rPr>
              <a:t>Ilona Tamulienė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1430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5715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8. Erdvinių kūnų tiesės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 ir plokštum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99760" y="1905120"/>
            <a:ext cx="66531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1. Erdvinių kūnų tiesė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2. Erdvinių kūnų plokštum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3. Kampas tarp tiesės ir plokštum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4. Kampas tarp plokštumų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9. Tikimybė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9.1. Skaičiuojame tikimyb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9.2. Tikimybių savybė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Kurso kartojim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. Skaiči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2. Veiksm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3. Reiškini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 Lygty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 Nelygybė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 Sistemo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7. Funkcijo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1468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9. Erdviniai kūn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0. Statistik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1. Kombinatorik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8. Plokštumos figūro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2. Tikimybė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3. Mat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5920" y="487440"/>
            <a:ext cx="631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5959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595900"/>
                </a:solidFill>
                <a:latin typeface="Times New Roman"/>
              </a:rPr>
              <a:t>U</a:t>
            </a:r>
            <a:r>
              <a:rPr b="0" lang="lt-LT" sz="4400" spc="-1" strike="noStrike">
                <a:solidFill>
                  <a:srgbClr val="595900"/>
                </a:solidFill>
                <a:latin typeface="Times New Roman"/>
              </a:rPr>
              <a:t>ž</a:t>
            </a:r>
            <a:r>
              <a:rPr b="0" lang="en-US" sz="4400" spc="-1" strike="noStrike">
                <a:solidFill>
                  <a:srgbClr val="595900"/>
                </a:solidFill>
                <a:latin typeface="Times New Roman"/>
              </a:rPr>
              <a:t>daviny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00120" y="1676160"/>
            <a:ext cx="7491600" cy="45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Kaip ir vadovėlį, uždavinyną rengė tas pats autorių kolektyva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Todėl visi uždaviniai suderinti su nagrinėjamais vadovėlyje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Tik uždavinyne jų yra kur kas daugiau, įvairesnių ir sunkesnių. Uždavinynas orientuotas į pagrindinio ir aukštesnio lygmens mokiniu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Visi uždaviniai kruopščiai atrinkti ir pateikiami sunkėjimo tvarka. Visi jie išspręsti, o atsakymai patikrinti leidyklos specialistų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5d5d00"/>
                </a:solidFill>
                <a:latin typeface="Arial"/>
              </a:rPr>
              <a:t>Uždavinynas skirtas I pusmečiui, o mokslo metų II pusmečiui laukite pasirengimo pagrindinio ugdymo pasiekimų patikrinimui (PUPP) ir kurso kartojimui skirtos knygutės. PUPP taip pat bus skirta pagrindinio ir aukštesnio lygmens mokiniam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9144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lt-LT" sz="5400" spc="-1" strike="noStrike">
                <a:solidFill>
                  <a:srgbClr val="000000"/>
                </a:solidFill>
                <a:latin typeface="Times New Roman"/>
              </a:rPr>
              <a:t>Literatū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Content Placeholder 2" descr=""/>
          <p:cNvPicPr/>
          <p:nvPr/>
        </p:nvPicPr>
        <p:blipFill>
          <a:blip r:embed="rId1"/>
          <a:stretch/>
        </p:blipFill>
        <p:spPr>
          <a:xfrm>
            <a:off x="1359000" y="1427040"/>
            <a:ext cx="778500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391520" cy="937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Šiuolaikiško ir naujausių programų dvasia parengto vadovėlio autoriai – Kornelija Intienė, Vida Meškauskaitė, Regina Rudalevičienė, Albina Vilimienė ir Valdas Vanaga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00"/>
                </a:solidFill>
                <a:latin typeface="Arial"/>
              </a:rPr>
              <a:t>„</a:t>
            </a:r>
            <a:r>
              <a:rPr b="1" lang="lt-LT" sz="2400" spc="-1" strike="noStrike">
                <a:solidFill>
                  <a:srgbClr val="333300"/>
                </a:solidFill>
                <a:latin typeface="Arial"/>
              </a:rPr>
              <a:t>Matematika Tau plius. 10 klasė“ visą komplektą sudaro: vadovėlis (I ir II dalys), skaitmeninė vadovėlio versija, pratybų sąsiuvinis (I ir II dalys), uždavinynas, pasirengimo PUPP knygelė, savarankiški ir kontroliniai darbai, mobili interaktyvi kompiuterinė knyga (MIKO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tematika Tau plius. 10 klas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1. Procenta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1.1 Didiname ir mažina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1.2 Kiek procentų daugiau? Kiek procentų mažiau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1.3 Procentai ir kartai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616100"/>
                </a:solidFill>
                <a:latin typeface="Arial"/>
              </a:rPr>
              <a:t>1.4 Sudėtinių procentų formulė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2. Trupmeniniai raidiniai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           reiškinia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31d09"/>
                </a:solidFill>
                <a:latin typeface="Arial"/>
              </a:rPr>
              <a:t>2.1 </a:t>
            </a: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Prastiname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2. Sudedame ir atimame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3. Dauginame ir dalijame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4. Kvadratinį trinarį skaidome dauginamaisia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5. Prastiname sudėtingesnes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3. Trupmeninės lygty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1. Sprendžiame trupmenin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lygtis </a:t>
            </a:r>
            <a:r>
              <a:rPr b="1" i="1" lang="lt-LT" sz="3200" spc="-1" strike="noStrike">
                <a:solidFill>
                  <a:srgbClr val="333300"/>
                </a:solidFill>
                <a:latin typeface="Arial"/>
              </a:rPr>
              <a:t>f</a:t>
            </a: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lt-LT" sz="3200" spc="-1" strike="noStrike">
                <a:solidFill>
                  <a:srgbClr val="333300"/>
                </a:solidFill>
                <a:latin typeface="Arial"/>
              </a:rPr>
              <a:t>x</a:t>
            </a: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) = 0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2. Sprendžiame sudėtingesnes trupmenines lygti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3. Sprendžiame judėjimo uždaviniu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4. Sprendžiame darbo uždaviniu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5. Lygčių sistemos, kurių tik viena lygtis yra tiesinė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Nelygybių sistemos, kvadratinės nelyg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1. Sprendžiame tiesinių nelygybių sistem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2. Sprendžiame dvigubąsias nelygyb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3. Sprendžiame kvadratines nelygybe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&lt;&gt; 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4. Sprendžiame kvadratines nelygybe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&lt;&gt; 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5. Sprendžiame kvadratines nelygybe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&lt;&gt; 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5. Funkcij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1. Dviejų dydžių funkcinė priklausomybė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2. Funkcijų savybė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3. Funkcijo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y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=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4. Funkcijo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y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=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≠ 0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5. Funkcijo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y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=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≠ 0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6. Braižome parabolę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7. Sprendžiame uždavinius, remdamiesi funkcijų grafika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 Stačiojo trikampio smailiojo kampo sinusas, kosinusas ir tangent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1. Stačiojo trikampio smailiojo kampo sinus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2. Stačiojo trikampio smailiojo kampo kosinus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3. Stačiojo trikampio smailiojo kampo tangent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4. Kaip rasti kampo dydį, žinant jo sinuso, kosinuso ar tangento reikšmę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5. Dar kartą statieji trikampi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7. Apskritimai, tiesės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         ir kampa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9760" y="2133360"/>
            <a:ext cx="68058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1. Centrinis kampas. Išpjov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2. Išpjovos lanko ilgis ir plota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3. Apskritimo kirstinė. Nuopjov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4. Apskritimo liestinė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lona</dc:creator>
  <dc:description/>
  <dc:language>en-US</dc:language>
  <cp:lastModifiedBy>Ilona</cp:lastModifiedBy>
  <dcterms:modified xsi:type="dcterms:W3CDTF">2011-01-18T22:28:1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